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D15-CD09-4F0D-8733-61122DCE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F05-0B04-4D59-BB86-857723EB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FC8-6413-43D2-8A79-B37E4480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97C3-9FE6-427E-AE7D-A0A1B0AD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04BA-C4F0-49A2-B5B1-8524537A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198B-FCD2-4739-9AEA-375E98A5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0170-9222-425E-9964-1CC7829A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9124-2A36-4746-AFB7-C0031607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F673-330E-4D6E-A06F-42A7ADA8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2811-BCFC-4619-A8A3-9BB21054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254B-3778-44D7-9500-117856DC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BCD-E0A1-4C89-9420-1A036645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01E1-78B0-43DA-A80C-D1151062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80CD-EE5A-4FB7-80B2-356597D6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9E5B-42BB-4BD6-9094-2F940378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5686-4646-4429-97AE-2A3539B4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69F7-BCED-4F8A-A1C9-E59B71CB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E61AB-F779-472C-A99D-B88A2B7A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77DEE-9888-4DB3-B3C7-D3E5E63E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5F7F8-1B7D-4444-AA30-FCA339D4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64BBD-B672-4070-A557-9C4F4AEC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0AAA2-4CAA-413E-8273-B8B29520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D80-8C59-4350-81EA-BE4A31FD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B1447-DFA4-4156-874D-0DDC4220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96E28-346D-40E7-A4BE-9D4FFB81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4B479-1B5A-4D25-B062-BF4439B9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E43F3-0320-4D13-8EEF-D6FF7DFE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7EC24-DE8B-4CD7-8DC0-4C5488DC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8A6C3-A779-42E1-B4ED-133272B7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992F0-B174-4CB3-B6A4-274B649C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1D3CE-6E33-4C90-B34C-3142ED5E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FA155-42B6-4201-9871-EBEB2CCA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F78CD-C54A-4DF1-ABA7-9199D231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7AA8-9F82-41D6-BDD8-EDB08F0F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26815-55E5-403C-94CC-47741D87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3C4C3-C736-41AA-AF4A-6CD23671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FC000-C903-43A5-993B-E98584C3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0288A-32F9-46C2-877B-85CE8AFA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B7CA8-4058-4F13-8F9D-9CBCE208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BF73E-DFF1-4C58-A5E0-B85FC4D8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092F8-BAC5-4D08-B35E-BBA8C5E0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97285-36D1-43ED-889E-9AF72E0D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B1A84-1AD3-460B-8407-F1169E1E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218C0-F576-4FA4-A6CA-829CA389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31D8-EBA2-4AFC-AE76-45FA496A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645EB-A7E7-42A8-8A4F-D18A2CB8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12372-0260-4F1F-9571-983E1D19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1BB2A-F5A4-4244-986F-3DDD194E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E63AA-0663-4A25-BBB9-112BF9BD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C60B9-79F2-4586-908A-35ED67CA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45DF5-CFF6-48A6-986B-B827417C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C88F6-63C6-4CB3-B86C-7CE09D1E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6C1E5-7416-4642-9E57-AF10DD77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14A17-4B07-4250-B493-2741ED5C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C38BB-786B-4717-BAFB-437D3BB0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145C-D6E1-40BA-AA05-7EBB406C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426A5-F073-4AEC-B314-F3697882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96D-FD55-495F-B51B-1D1E2AB3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4AE-9560-4805-AA86-E4E7AA0C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D1C-A3C1-4C1D-9F99-B19CE157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FA87-9F07-4B78-AB82-9BE71F91B5C3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Zaoblený obdélník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Obdélník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Obdélník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63C0-D9ED-4F23-A4C4-5893451D0253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Zaoblený obdélník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Zaoblený obdélník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Obdélník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Obdélník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Obdélník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A844-598F-4C28-BE06-B041CDFCE53D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Obdélní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Zaoblený obdélník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323B-A85B-434A-8137-8F13113DE2F2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Obdélník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Obdélník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Obdélník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16BC-978C-48F1-8984-F0BF2A02D6C9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696464"/>
                </a:solidFill>
                <a:latin typeface="Perpetua"/>
              </a:rPr>
              <a:t>Základní škola Dub nad Moravou</a:t>
            </a:r>
            <a:endParaRPr b="0" lang="en-US" sz="5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ff"/>
                </a:solidFill>
                <a:latin typeface="Franklin Gothic Book"/>
              </a:rPr>
              <a:t>Basic school </a:t>
            </a:r>
            <a:br>
              <a:rPr sz="5400"/>
            </a:br>
            <a:r>
              <a:rPr b="0" lang="cs-CZ" sz="5400" spc="-1" strike="noStrike">
                <a:solidFill>
                  <a:srgbClr val="ffffff"/>
                </a:solidFill>
                <a:latin typeface="Franklin Gothic Book"/>
              </a:rPr>
              <a:t>Dub nad Moravou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96464"/>
                </a:solidFill>
                <a:latin typeface="Franklin Gothic Book"/>
              </a:rPr>
              <a:t>A Night with Andersen – our favourite night at school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34817"/>
                </a:solidFill>
                <a:latin typeface="Franklin Gothic Book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34817"/>
                </a:solidFill>
                <a:latin typeface="Franklin Gothic Book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Zástupný symbol pro obsah 6" descr="P1010340.JPG"/>
          <p:cNvPicPr/>
          <p:nvPr/>
        </p:nvPicPr>
        <p:blipFill>
          <a:blip r:embed="rId1"/>
          <a:stretch/>
        </p:blipFill>
        <p:spPr>
          <a:xfrm>
            <a:off x="914400" y="279072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268" name="Zástupný symbol pro obsah 7" descr="P1050161.JPG"/>
          <p:cNvPicPr/>
          <p:nvPr/>
        </p:nvPicPr>
        <p:blipFill>
          <a:blip r:embed="rId2"/>
          <a:stretch/>
        </p:blipFill>
        <p:spPr>
          <a:xfrm>
            <a:off x="4952880" y="2951280"/>
            <a:ext cx="373392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A school club of handy fingers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d34817"/>
                </a:solidFill>
                <a:latin typeface="Franklin Gothic Book"/>
              </a:rPr>
              <a:t>Girls from the club meet once a week  and learn various crafts  and techniques.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d34817"/>
                </a:solidFill>
                <a:latin typeface="Franklin Gothic Book"/>
              </a:rPr>
              <a:t>They  work with beads, FIMO mass, paper, wood… They are very good at basketry.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2" name="Zástupný symbol pro obsah 6" descr="P1050536.JPG"/>
          <p:cNvPicPr/>
          <p:nvPr/>
        </p:nvPicPr>
        <p:blipFill>
          <a:blip r:embed="rId1"/>
          <a:stretch/>
        </p:blipFill>
        <p:spPr>
          <a:xfrm>
            <a:off x="914400" y="2951280"/>
            <a:ext cx="3733920" cy="2479680"/>
          </a:xfrm>
          <a:prstGeom prst="rect">
            <a:avLst/>
          </a:prstGeom>
          <a:ln w="0">
            <a:noFill/>
          </a:ln>
        </p:spPr>
      </p:pic>
      <p:pic>
        <p:nvPicPr>
          <p:cNvPr id="273" name="Zástupný symbol pro obsah 7" descr="P1040652.JPG"/>
          <p:cNvPicPr/>
          <p:nvPr/>
        </p:nvPicPr>
        <p:blipFill>
          <a:blip r:embed="rId2"/>
          <a:stretch/>
        </p:blipFill>
        <p:spPr>
          <a:xfrm>
            <a:off x="4952880" y="2951280"/>
            <a:ext cx="373392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85520" y="272520"/>
            <a:ext cx="790092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School sport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714320"/>
            <a:ext cx="3733920" cy="495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90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34817"/>
                </a:solidFill>
                <a:latin typeface="Franklin Gothic Book"/>
              </a:rPr>
              <a:t>An athletics competi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31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34817"/>
                </a:solidFill>
                <a:latin typeface="Franklin Gothic Book"/>
              </a:rPr>
              <a:t>Our school football tea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Zástupný symbol pro obsah 6" descr="Fotky+mix-pavl%C3%ADna+430.JPG"/>
          <p:cNvPicPr/>
          <p:nvPr/>
        </p:nvPicPr>
        <p:blipFill>
          <a:blip r:embed="rId1"/>
          <a:stretch/>
        </p:blipFill>
        <p:spPr>
          <a:xfrm>
            <a:off x="914400" y="279072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278" name="Zástupný symbol pro obsah 7" descr="Fotky+mix-pavl%C3%ADna+371.JPG"/>
          <p:cNvPicPr/>
          <p:nvPr/>
        </p:nvPicPr>
        <p:blipFill>
          <a:blip r:embed="rId2"/>
          <a:stretch/>
        </p:blipFill>
        <p:spPr>
          <a:xfrm>
            <a:off x="4952880" y="279072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A school – a part of our village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89000"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d34817"/>
                </a:solidFill>
                <a:latin typeface="Franklin Gothic Book"/>
              </a:rPr>
              <a:t>The school building was built in 1890, the first school in the village was mentioned in 16th century.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d34817"/>
                </a:solidFill>
                <a:latin typeface="Franklin Gothic Book"/>
              </a:rPr>
              <a:t>Our village is very old. Its name in English means </a:t>
            </a:r>
            <a:r>
              <a:rPr b="1" i="1" lang="cs-CZ" sz="1700" spc="-1" strike="noStrike">
                <a:solidFill>
                  <a:srgbClr val="d34817"/>
                </a:solidFill>
                <a:latin typeface="Franklin Gothic Book"/>
              </a:rPr>
              <a:t> An Oak Tree upon the Morava River.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3" name="Zástupný symbol pro obsah 3" descr="S011437.jpg"/>
          <p:cNvPicPr/>
          <p:nvPr/>
        </p:nvPicPr>
        <p:blipFill>
          <a:blip r:embed="rId1"/>
          <a:stretch/>
        </p:blipFill>
        <p:spPr>
          <a:xfrm>
            <a:off x="1143000" y="3000240"/>
            <a:ext cx="2868480" cy="2151360"/>
          </a:xfrm>
          <a:prstGeom prst="rect">
            <a:avLst/>
          </a:prstGeom>
          <a:ln w="0">
            <a:noFill/>
          </a:ln>
        </p:spPr>
      </p:pic>
      <p:pic>
        <p:nvPicPr>
          <p:cNvPr id="234" name="Zástupný symbol pro obsah 6" descr="images.jpg"/>
          <p:cNvPicPr/>
          <p:nvPr/>
        </p:nvPicPr>
        <p:blipFill>
          <a:blip r:embed="rId2"/>
          <a:stretch/>
        </p:blipFill>
        <p:spPr>
          <a:xfrm>
            <a:off x="6362640" y="3619440"/>
            <a:ext cx="914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Two school buildings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94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d34817"/>
                </a:solidFill>
                <a:latin typeface="Franklin Gothic Book"/>
              </a:rPr>
              <a:t>A path to the upper building for older children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34817"/>
                </a:solidFill>
                <a:latin typeface="Franklin Gothic Book"/>
              </a:rPr>
              <a:t>A lower building for younger childre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Zástupný symbol pro obsah 6" descr="Cesta+ke+%C5%A1kole+1.jpg"/>
          <p:cNvPicPr/>
          <p:nvPr/>
        </p:nvPicPr>
        <p:blipFill>
          <a:blip r:embed="rId1"/>
          <a:stretch/>
        </p:blipFill>
        <p:spPr>
          <a:xfrm>
            <a:off x="2013120" y="3166920"/>
            <a:ext cx="1536480" cy="2048040"/>
          </a:xfrm>
          <a:prstGeom prst="rect">
            <a:avLst/>
          </a:prstGeom>
          <a:ln w="0">
            <a:noFill/>
          </a:ln>
        </p:spPr>
      </p:pic>
      <p:pic>
        <p:nvPicPr>
          <p:cNvPr id="239" name="Zástupný symbol pro obsah 7" descr="c5b4846a2e.jpg"/>
          <p:cNvPicPr/>
          <p:nvPr/>
        </p:nvPicPr>
        <p:blipFill>
          <a:blip r:embed="rId2"/>
          <a:stretch/>
        </p:blipFill>
        <p:spPr>
          <a:xfrm>
            <a:off x="6058080" y="3730680"/>
            <a:ext cx="152388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96464"/>
                </a:solidFill>
                <a:latin typeface="Franklin Gothic Book"/>
              </a:rPr>
              <a:t>A school Art room in an attic.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905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our students love  their  Art less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Art is taught in  a modern sunny  studi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children like to work   in  groups on big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sized  work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2" name="Zástupný symbol pro obsah 4" descr="P1050688.JPG"/>
          <p:cNvPicPr/>
          <p:nvPr/>
        </p:nvPicPr>
        <p:blipFill>
          <a:blip r:embed="rId1"/>
          <a:stretch/>
        </p:blipFill>
        <p:spPr>
          <a:xfrm>
            <a:off x="2971800" y="1951200"/>
            <a:ext cx="57150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Art lessons in an attic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4" name="Zástupný symbol pro obsah 4" descr="P1050696.JPG"/>
          <p:cNvPicPr/>
          <p:nvPr/>
        </p:nvPicPr>
        <p:blipFill>
          <a:blip r:embed="rId1"/>
          <a:stretch/>
        </p:blipFill>
        <p:spPr>
          <a:xfrm>
            <a:off x="914400" y="2489040"/>
            <a:ext cx="3749760" cy="2489400"/>
          </a:xfrm>
          <a:prstGeom prst="rect">
            <a:avLst/>
          </a:prstGeom>
          <a:ln w="0">
            <a:noFill/>
          </a:ln>
        </p:spPr>
      </p:pic>
      <p:pic>
        <p:nvPicPr>
          <p:cNvPr id="245" name="Zástupný symbol pro obsah 5" descr="P1060747.JPG"/>
          <p:cNvPicPr/>
          <p:nvPr/>
        </p:nvPicPr>
        <p:blipFill>
          <a:blip r:embed="rId2"/>
          <a:stretch/>
        </p:blipFill>
        <p:spPr>
          <a:xfrm>
            <a:off x="4933800" y="2489040"/>
            <a:ext cx="374976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A school ICT room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7" name="Zástupný symbol pro obsah 4" descr="P1060730.JPG"/>
          <p:cNvPicPr/>
          <p:nvPr/>
        </p:nvPicPr>
        <p:blipFill>
          <a:blip r:embed="rId1"/>
          <a:stretch/>
        </p:blipFill>
        <p:spPr>
          <a:xfrm>
            <a:off x="914400" y="2489040"/>
            <a:ext cx="3749760" cy="2489400"/>
          </a:xfrm>
          <a:prstGeom prst="rect">
            <a:avLst/>
          </a:prstGeom>
          <a:ln w="0">
            <a:noFill/>
          </a:ln>
        </p:spPr>
      </p:pic>
      <p:pic>
        <p:nvPicPr>
          <p:cNvPr id="248" name="Zástupný symbol pro obsah 5" descr="P1040808.JPG"/>
          <p:cNvPicPr/>
          <p:nvPr/>
        </p:nvPicPr>
        <p:blipFill>
          <a:blip r:embed="rId2"/>
          <a:stretch/>
        </p:blipFill>
        <p:spPr>
          <a:xfrm>
            <a:off x="4933800" y="2489040"/>
            <a:ext cx="374976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School projects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d34817"/>
                </a:solidFill>
                <a:latin typeface="Franklin Gothic Book"/>
              </a:rPr>
              <a:t>Tell me what you eat…  A project about healthy eating habbits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34817"/>
                </a:solidFill>
                <a:latin typeface="Franklin Gothic Book"/>
              </a:rPr>
              <a:t>                </a:t>
            </a:r>
            <a:r>
              <a:rPr b="1" lang="cs-CZ" sz="2400" spc="-1" strike="noStrike">
                <a:solidFill>
                  <a:srgbClr val="d34817"/>
                </a:solidFill>
                <a:latin typeface="Franklin Gothic Book"/>
              </a:rPr>
              <a:t>A tree da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Zástupný symbol pro obsah 7" descr="P1060774.JPG"/>
          <p:cNvPicPr/>
          <p:nvPr/>
        </p:nvPicPr>
        <p:blipFill>
          <a:blip r:embed="rId1"/>
          <a:stretch/>
        </p:blipFill>
        <p:spPr>
          <a:xfrm>
            <a:off x="914400" y="2951280"/>
            <a:ext cx="3733920" cy="2479680"/>
          </a:xfrm>
          <a:prstGeom prst="rect">
            <a:avLst/>
          </a:prstGeom>
          <a:ln w="0">
            <a:noFill/>
          </a:ln>
        </p:spPr>
      </p:pic>
      <p:pic>
        <p:nvPicPr>
          <p:cNvPr id="253" name="Zástupný symbol pro obsah 6" descr="P1050736.JPG"/>
          <p:cNvPicPr/>
          <p:nvPr/>
        </p:nvPicPr>
        <p:blipFill>
          <a:blip r:embed="rId2"/>
          <a:stretch/>
        </p:blipFill>
        <p:spPr>
          <a:xfrm>
            <a:off x="4952880" y="2951280"/>
            <a:ext cx="373392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School events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83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34817"/>
                </a:solidFill>
                <a:latin typeface="Franklin Gothic Book"/>
              </a:rPr>
              <a:t>St. Nicolas visit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34817"/>
                </a:solidFill>
                <a:latin typeface="Franklin Gothic Book"/>
              </a:rPr>
              <a:t>at schoo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91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34817"/>
                </a:solidFill>
                <a:latin typeface="Franklin Gothic Book"/>
              </a:rPr>
              <a:t>Halloween  party at schoo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Zástupný symbol pro obsah 6" descr="P1040617.JPG"/>
          <p:cNvPicPr/>
          <p:nvPr/>
        </p:nvPicPr>
        <p:blipFill>
          <a:blip r:embed="rId1"/>
          <a:stretch/>
        </p:blipFill>
        <p:spPr>
          <a:xfrm>
            <a:off x="1165320" y="2394000"/>
            <a:ext cx="2477880" cy="3732120"/>
          </a:xfrm>
          <a:prstGeom prst="rect">
            <a:avLst/>
          </a:prstGeom>
          <a:ln w="0">
            <a:noFill/>
          </a:ln>
        </p:spPr>
      </p:pic>
      <p:pic>
        <p:nvPicPr>
          <p:cNvPr id="258" name="Zástupný symbol pro obsah 7" descr="P1040439.JPG"/>
          <p:cNvPicPr/>
          <p:nvPr/>
        </p:nvPicPr>
        <p:blipFill>
          <a:blip r:embed="rId2"/>
          <a:stretch/>
        </p:blipFill>
        <p:spPr>
          <a:xfrm>
            <a:off x="4952880" y="2951280"/>
            <a:ext cx="373392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School culture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34817"/>
                </a:solidFill>
                <a:latin typeface="Franklin Gothic Book"/>
              </a:rPr>
              <a:t>Students´ photo exhibition in a church tomb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91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34817"/>
                </a:solidFill>
                <a:latin typeface="Franklin Gothic Book"/>
              </a:rPr>
              <a:t>A concert of our school choi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Zástupný symbol pro obsah 10" descr="P1040747.JPG"/>
          <p:cNvPicPr/>
          <p:nvPr/>
        </p:nvPicPr>
        <p:blipFill>
          <a:blip r:embed="rId1"/>
          <a:stretch/>
        </p:blipFill>
        <p:spPr>
          <a:xfrm>
            <a:off x="914400" y="2951280"/>
            <a:ext cx="3733920" cy="2479680"/>
          </a:xfrm>
          <a:prstGeom prst="rect">
            <a:avLst/>
          </a:prstGeom>
          <a:ln w="0">
            <a:noFill/>
          </a:ln>
        </p:spPr>
      </p:pic>
      <p:pic>
        <p:nvPicPr>
          <p:cNvPr id="263" name="Zástupný symbol pro obsah 11" descr="P1040789.JPG"/>
          <p:cNvPicPr/>
          <p:nvPr/>
        </p:nvPicPr>
        <p:blipFill>
          <a:blip r:embed="rId2"/>
          <a:stretch/>
        </p:blipFill>
        <p:spPr>
          <a:xfrm>
            <a:off x="4952880" y="2951280"/>
            <a:ext cx="373392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3:11:21Z</dcterms:created>
  <dc:creator>lokalni</dc:creator>
  <dc:description/>
  <dc:language>en-US</dc:language>
  <cp:lastModifiedBy>lokalni</cp:lastModifiedBy>
  <dcterms:modified xsi:type="dcterms:W3CDTF">2009-10-17T14:49:58Z</dcterms:modified>
  <cp:revision>10</cp:revision>
  <dc:subject/>
  <dc:title>Basic school  Dub nad Moravou </dc:title>
</cp:coreProperties>
</file>